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714-BAA0-4E63-BA67-1B1EC325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5B8-AD42-4252-8C51-5CEAEA16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685-955E-49C0-AAA8-8DA90702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DFF-7F88-4C37-81C9-59A8EA59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6A03-5540-43FF-A21B-5CAE8089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FF01-A31F-419A-A323-67FD4743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20C3-7354-424F-A080-CD3E591C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CAB1-2697-4D6C-8C82-E9822E80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DEEC-E8A7-499F-9814-8DCBE70B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3901-E412-488B-A7EA-F325482D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5664-0671-47D3-B77E-7EDE2BC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58A-3583-4738-91BC-244B5972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785B-E63E-4022-ADF8-953AB353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F0DF-90FB-4F15-8539-19B6F1A1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EF5B-BA3A-4D9F-9F83-54B68F02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05F7-0385-407F-B833-14D5B8CD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A25D-92C9-4553-8C9F-EE8DD3F2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A8A-605F-4CDC-94D4-795B36E4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882-B26B-4A6C-88B7-39648E12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044-65B6-4D7C-97F5-BE14320B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847-15A5-46A3-A974-FA8DDE50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815-845A-4D69-82D7-CCBF0369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AAD-C361-44F1-95C4-8BAEBA6C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65A-2317-4B25-B404-46D50F75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7E6A-7038-4C95-98F5-4BA845B383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B622-7AF6-407D-912B-F82B7D6A08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m </a:t>
            </a:r>
            <a:r>
              <a:rPr b="0" lang="ro-RO" sz="5400" spc="-1" strike="noStrike">
                <a:solidFill>
                  <a:srgbClr val="ffffcc"/>
                </a:solidFill>
                <a:latin typeface="Tahoma"/>
              </a:rPr>
              <a:t>învăţat să socotesc 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ână la 100 e uş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Ordonăm num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Mama m-a trezit după ce a cântat cocoşul de 45 de ori,eu am numărat încă 13 , a cântat mult, de 58 de 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3962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Fac uşor adunări şi scăder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26+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3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4+18=7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+7=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4-5=6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-3=1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6-7=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671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Aflu termenul necunoscut</a:t>
            </a:r>
            <a:br>
              <a:rPr sz="4000"/>
            </a:b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am atâtea cireşe câte mai culeg să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am atât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752480"/>
          <a:ext cx="403848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0384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241520" y="315756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55480" y="297180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51800" y="2971800"/>
            <a:ext cx="616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22120" y="304812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8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9:17:50Z</dcterms:created>
  <dc:creator>Albert Hajnalka</dc:creator>
  <dc:description/>
  <dc:language>en-US</dc:language>
  <cp:lastModifiedBy>Albert Hajnalka</cp:lastModifiedBy>
  <dcterms:modified xsi:type="dcterms:W3CDTF">2010-08-25T10:12:30Z</dcterms:modified>
  <cp:revision>3</cp:revision>
  <dc:subject/>
  <dc:title>Am învăţat să socotesc !</dc:title>
</cp:coreProperties>
</file>